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gif" ContentType="image/gi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8F9-F991-41E5-9454-698945C0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C32B-F9D7-4D94-B392-62767375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EE3-1E2C-4999-8057-A62C4956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1F13-2C05-469A-BE44-B8465258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317-86E9-4359-B43B-45E19699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BFE-BBF1-4401-B3D8-5D2F6D0D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4251-BBD6-4279-9C6E-6F36148A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4D3-611C-4DD1-AAA1-7338445F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A57B-DA7B-4CAE-B40D-4F1DBECA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C7A-2F57-4BBC-B828-7B62807B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C68-8752-4F00-B757-B0AC10B1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6F84-2CA3-4C8B-911C-91CC27AD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7B89-1131-4112-AAEB-15FB8D2C4AD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24080"/>
            <a:ext cx="91440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6000" spc="-1" strike="noStrike">
                <a:solidFill>
                  <a:srgbClr val="000000"/>
                </a:solidFill>
                <a:latin typeface="Arial"/>
                <a:cs typeface="Simplified Arabic"/>
              </a:rPr>
              <a:t>برنامج حماة المستقب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0000"/>
                </a:solidFill>
                <a:latin typeface="Arial"/>
                <a:cs typeface="Simplified Arabic"/>
              </a:rPr>
              <a:t>الدورة التدريبية الثالث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ff0000"/>
                </a:solidFill>
                <a:latin typeface="Arial"/>
                <a:cs typeface="Simplified Arabic"/>
              </a:rPr>
              <a:t>لإعــداد المدرب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عمّان _ المملكة الأردنية الهاشم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01- 06/03/2005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257800" y="1371600"/>
          <a:ext cx="762120" cy="8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371600"/>
                    <a:ext cx="76212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809880" y="1295280"/>
            <a:ext cx="1371600" cy="99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809880" y="36360"/>
            <a:ext cx="1287720" cy="1258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514600" y="1409760"/>
            <a:ext cx="990720" cy="79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220-B1D1-4BE1-994A-6ADD630985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53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يكون شعوري عندما يطلب منك تقديم عرض ما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05200" y="1376280"/>
            <a:ext cx="42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اثق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8920" y="1951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خائف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5920" y="252720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غير واثق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755880"/>
            <a:ext cx="91440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  <a:cs typeface="Simplified Arabic"/>
              </a:rPr>
              <a:t>في الثانية والثالثة ... لا تخف فهذا شيء طبيع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  <a:ea typeface="Simplified Arabic"/>
              </a:rPr>
              <a:t>( فمعظم الناس لديهم هذا الشعور 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C88E-FCE6-420C-B105-8E1AE9DFC7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80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نقاط يجب أن انتبه لها إذا أردت أن يتذكر الناس محاضر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7080" y="2290680"/>
            <a:ext cx="898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نطباع الأول والانطباع الأخير تجاه الحضور هو ما يجعل المحاضرة إيجابية ومفضل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5812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حدد النقاط بما يتفق مع رغبات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5920" y="4449600"/>
            <a:ext cx="902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عطي مختصراً عاماً قبل الدخول في تفاصيل النقا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7F87-ACFA-4831-AEAD-EF16112203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53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نقاط يجب أن انتبه لها إذا أردت أن يتذكر الناس محاضر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986120"/>
            <a:ext cx="898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كثر من وسيلة إحساس استعمالها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( الكلام والوسائل البصرية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26146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أسعى لمعرفة التغذية الراجع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5920" y="3270240"/>
            <a:ext cx="90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تحدّث عن مشاكلهم واحتياجات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C71-E90C-4798-843D-F12113B9F0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08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يف أبدأ ؟ البداية كيف تكون؟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200" y="1550880"/>
            <a:ext cx="880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cs typeface="Simplified Arabic"/>
              </a:rPr>
              <a:t>هناك طريقتان لبدء المحاضرة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03640" y="2200320"/>
            <a:ext cx="41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  <a:ea typeface="Simplified Arabic"/>
              </a:rPr>
              <a:t>* بشكل رسم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2836800"/>
            <a:ext cx="776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صباح الخير، أرحب بكم في هذا الصباح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3711600"/>
            <a:ext cx="45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  <a:ea typeface="Simplified Arabic"/>
              </a:rPr>
              <a:t>* بشكل غير رسم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348080"/>
            <a:ext cx="867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cs typeface="Simplified Arabic"/>
              </a:rPr>
              <a:t>حاول شد انتباه الحضور بشكل أكبر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كسر الحاجز النفسي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65A-474E-455B-92D4-918F513C7A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133720" y="138924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فاجئ الحضور بأشياء لا يعرف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687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ذكّرهم بشيء يعرفونه ”السنة الماضية عندما كنت هنا قلت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087640"/>
            <a:ext cx="63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سأل سؤال عام ... غير مباش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252360" y="26668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شجّع فضول الحضور لشيء ما،،، ليس من الضروري أن أحصل على جواب من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29732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عرض عليهم شيئاً يشاهدونه ” فيلم، إحصائية،...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252360" y="4952880"/>
            <a:ext cx="93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بدأ معهم بشكل حيوي وهام واجعل ذلك واضحاً على وجه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56689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عرض عليهم حقائق وأرقام لها علاقة بالموضو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يف أبدأ ؟ البداية كيف تكون؟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D84-3F33-4A90-9D06-1AF41C3D82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9720" y="533520"/>
            <a:ext cx="10086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حدث الدراسات النفسية أوضح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51596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شخص بإمكانه أن يفكر بمعدل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80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كلمة في الدقيقة.. والمدرب يتحدث بمعدل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12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كلمة في الدقيقة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81080" y="2390760"/>
            <a:ext cx="93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تعطي المستمع شيئاً ممتعـاً للوقت المتبقي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680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كلمة فـي الدقيق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325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مخ يذهب في مرحلة ”الإقفال الأوتوماتيكي“ بعد عشر دقائق من الحديث، إذا لم يعطى شيئاً ينشط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6240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علينا تنويع مصادر الإرسال والأدوات المستعم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F45-6CB7-42FC-9CE0-87A8951DD1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920" y="2443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إذا أعطيت الرسالة مرة واحدة فإن المستمع يتذكر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1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% من حديثي بعد سنة، وإذا أعطيت الرسالة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6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مرات فإن نسبة التذكر ترتفع إلى 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90</a:t>
            </a: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337500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يعني ذلك أن علينا أن نعيد، أن نجدد، أن نراج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360" y="3894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المخ يفضل الأشكال الدائرية والأرقام والألوا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3876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دراسات أثبتت أن الحضور في القاعات الخلفية أقل مشاركة من الصفوف الأمام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9720" y="1428840"/>
            <a:ext cx="1008684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حدث الدراسات النفسية أوضحت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C62-558D-4386-AA1C-D5B5062569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22575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تذكّر أنني أملك معلومات، الجمهور يريد أن يستمع إلي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9164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علي أن أجيب على أسئلة الحض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276552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لجمهور يريدني  أن انج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54040" y="3341520"/>
            <a:ext cx="76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لجمهور لا يعرف أني خائ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0" y="1547640"/>
            <a:ext cx="895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ea typeface="Simplified Arabic"/>
              </a:rPr>
              <a:t>**  يجب أن أركّز على مهارات إزالة الخوف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A85-9C7B-413E-B115-00834F8379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319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أتجاهل الاعتقادات الخاطئة ( بأنني سوف أنسى كل شيء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28600" y="3763800"/>
            <a:ext cx="93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تخيّل أسوأ شيء ممكن أن يحصل (ثم أضع له حلولاً افتراض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286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استعمل إيحاءات نفسية داخلية ( أنا أفضل متحدّث في هذا العالم .. أكون أنا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0" y="609480"/>
            <a:ext cx="895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ea typeface="Simplified Arabic"/>
              </a:rPr>
              <a:t>** كيف اواجه الخوف 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8A69-6D31-4917-9F95-3894935ABE8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619720" y="533520"/>
            <a:ext cx="7536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يجب أن أسيطر على خوف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قبل أن يسيطر علي .. كيف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209376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فكّر في أشياء إيجابية .. ( سأنجح .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5211720"/>
            <a:ext cx="627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صعد بعض الطوابق واهبط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3246480"/>
            <a:ext cx="67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بادر في مواجهة الخوف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4449600"/>
            <a:ext cx="454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اُظهر خوفي للحضو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2670120"/>
            <a:ext cx="800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وتزعم أنك جرمٌ صغيرٌ .. وفيك انطوى العالم الأكب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81080" y="3751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333399"/>
                </a:solidFill>
                <a:latin typeface="Arial"/>
                <a:cs typeface="Simplified Arabic"/>
              </a:rPr>
              <a:t>لا يبلغ المجد من لم يركب الخطرا .. ولا ينال العلا من قدّم الحذر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665D-7799-4F0B-9A4B-68A5C9567A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54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228600"/>
            <a:ext cx="7993080" cy="76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990000"/>
                </a:solidFill>
                <a:latin typeface="Arial"/>
                <a:cs typeface="PT Bold Heading"/>
              </a:rPr>
              <a:t>بيان من متدرب/ متدربة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990000"/>
                </a:solidFill>
                <a:latin typeface="Arial"/>
                <a:cs typeface="PT Bold Heading"/>
              </a:rPr>
              <a:t>سأكمل الدورة إذا... وفقط إذا...</a:t>
            </a:r>
            <a:r>
              <a:rPr b="1" lang="ar-AE" sz="44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رغب بالتعل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PT Bold Heading"/>
              </a:rPr>
              <a:t>كنت أرغب بالاستمرار حتى نهاية الرحلة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ستمتع بالعمل مع الآخرين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وفر الوقت الكافي لأقضيه مع المجتمع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 كنت أعتقد أن بإمكاني أن أؤثر في أداء الآخرين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938-B7ED-447C-A7AA-D142ACEE19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19720" y="533520"/>
            <a:ext cx="75369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يجب أن أسيطر على خوفي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قبل أن يسيطر علي .. كيف؟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327672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ثاؤب عدة مرات ليسترخي الفكّّا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513540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0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تجنّب التدخين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388620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8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مارس التأمّل، وأتخيل أني احاضر والحضور يشيد 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45165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9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تخيّل أني تلقي حديثاً عظيماً ... وسوف يحدث هذ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5745240"/>
            <a:ext cx="836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احاول التخلّّص من الخوف .. لأني لن استطيع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9960" y="1981080"/>
            <a:ext cx="836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دريبات شدّ العضلات ( اليدين، الساقين، المعد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43280" y="2620800"/>
            <a:ext cx="591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آخذ نفساً عميقاً (مراراًً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5559-E6D2-4152-AD62-17F7438012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863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في بداية البرنامج التدريبي، لا يفكّر المتدرب في المدرب أو في المحتوى التدريبي،وإنما في أوقات الاستراحة،نهاية اليوم التدريبي، الأصوات، الروائ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70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عندما يصل المتدربون إلى قاعة التدريب فإنهم يعانون نوعاً ما من عدم التوازن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0831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لتميّز في كسر الحاجز النفسي سوف يساعد المتدرب على الاندماج في البرنامج التدري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073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333399"/>
                </a:solidFill>
                <a:latin typeface="Arial"/>
                <a:ea typeface="Simplified Arabic"/>
              </a:rPr>
              <a:t>- إزالة الخوف من الطرفين، من المتدرب تجاه المدرب أو من المدرب تجاه الحضور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088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كسر الحاجز النفسي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ea typeface="Simplified Arabic"/>
              </a:rPr>
              <a:t> لماذا نحتاج لذلك ...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EC77-1FF2-43B9-96E3-3F39D8D5DC9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896080" y="2349360"/>
            <a:ext cx="211428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حدد احتياجاته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91080" y="2349360"/>
            <a:ext cx="211428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صة مفرح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9360" y="236844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طرفة خفيف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13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صة حزين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81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أرقام وإحصائي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9360" y="3276720"/>
            <a:ext cx="2114640" cy="583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عرّف زميل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940360" y="421308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قواعد الدور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908000" y="331920"/>
            <a:ext cx="5715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أساليب كسر الحاجز النفسي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3681360" y="422100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سؤال غير مباش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9360" y="4213080"/>
            <a:ext cx="2114640" cy="584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000" spc="-1" strike="noStrike">
                <a:solidFill>
                  <a:srgbClr val="000000"/>
                </a:solidFill>
                <a:latin typeface="Arial"/>
                <a:cs typeface="Simplified Arabic"/>
              </a:rPr>
              <a:t>تجربة شخص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3EC-0BD0-47E9-8918-9FA507A20FF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0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3880" y="365040"/>
            <a:ext cx="61214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شروط أسلوب كسر الحاجز النفس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21932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م تجربته مسبقاً وأدى نتائ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828800"/>
            <a:ext cx="890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ه علاقة بالبرنامج التدريبي ( ما أمكن ذلك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43828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وجد فيه حيوية ونشا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048120"/>
            <a:ext cx="890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غير معقّد ويتميّز بالترت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70368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متدربون يستمتعون ب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20" y="429732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متميّز ومتفرّد ( لم يسبق للمتدربين تجربته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0" y="4906800"/>
            <a:ext cx="89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إيجابي ولا يزعج الآخ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920" y="5592600"/>
            <a:ext cx="89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أن تكون مدته قصيرة ( من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إلى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0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دقائق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4DC-265C-46DA-B1EA-D0F933AC581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994920" y="-30240"/>
            <a:ext cx="576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المحاضر المتميّز يتبع الآت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407360" y="523800"/>
            <a:ext cx="135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مقدم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6720" y="256536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وسط (الجسد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1640" y="98100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دّ الانتباه ( كسر الحاجز النفسي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1640" y="13762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رض النقاط الرئي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736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حديد الأهدا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11640" y="209700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تياجات الجمه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307008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نقاط يجب أن تعم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11640" y="346536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يف تسيطر على الحض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3825720"/>
            <a:ext cx="516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سائل دعم، أسئلة، مراجع، وسائل بص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4184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تمال معارضة الحضو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93080" y="462744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ff"/>
                </a:solidFill>
                <a:latin typeface="Arial"/>
                <a:ea typeface="Simplified Arabic"/>
              </a:rPr>
              <a:t>* </a:t>
            </a:r>
            <a:r>
              <a:rPr b="1" lang="ar-AE" sz="2400" spc="-1" strike="noStrike" u="sng">
                <a:solidFill>
                  <a:srgbClr val="0000ff"/>
                </a:solidFill>
                <a:uFillTx/>
                <a:latin typeface="Arial"/>
                <a:cs typeface="Simplified Arabic"/>
              </a:rPr>
              <a:t>الخاتم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11640" y="5084640"/>
            <a:ext cx="42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راجع ما قلت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29280" y="5516640"/>
            <a:ext cx="42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تصار النقا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5877000"/>
            <a:ext cx="42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قفال الكلمات والتعليق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523800"/>
            <a:ext cx="273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ماذا ستقول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11640" y="2565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03640" y="4581360"/>
            <a:ext cx="23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6600"/>
                </a:solidFill>
                <a:latin typeface="Arial"/>
                <a:cs typeface="Simplified Arabic"/>
              </a:rPr>
              <a:t>قل لهم ماذا قلت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3024000" cy="5616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 flipH="1">
            <a:off x="3492000" y="836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63492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3634920" y="4869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30C6-51DF-47B1-BBB1-FFCCD56290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84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2000"/>
                            </p:stCondLst>
                            <p:childTnLst>
                              <p:par>
                                <p:cTn id="89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806400"/>
            <a:ext cx="830556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PT Bold Heading"/>
              </a:rPr>
              <a:t>(تابع) التعريف والمقدمة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500" spc="-1" strike="noStrike">
                <a:solidFill>
                  <a:srgbClr val="000000"/>
                </a:solidFill>
                <a:latin typeface="Arial"/>
                <a:cs typeface="PT Bold Heading"/>
              </a:rPr>
              <a:t>المادة في سطور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.B.C. = Aim. Body. Conclusion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.B.C. = Introduction. Body. Conclusion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K.I.S.S. = Keep It Short and Simple</a:t>
            </a:r>
            <a:r>
              <a:rPr b="1" lang="en-US" sz="35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D0D-F22C-40F0-873C-76CC5F1CDC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318960"/>
            <a:ext cx="86425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نت رأسي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97720" y="248436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97720" y="19080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97720" y="12780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97720" y="376560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97720" y="3060720"/>
            <a:ext cx="40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97720" y="44290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cs typeface="Simplified Arabic"/>
              </a:rPr>
              <a:t>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97720" y="5364000"/>
            <a:ext cx="4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800000"/>
                </a:solidFill>
                <a:latin typeface="Arial"/>
                <a:cs typeface="Simplified Arabic"/>
              </a:rPr>
              <a:t>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33200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خرج الحروف بمخارجها الصحيحة ( لا تأكل الكلمات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0920" y="195588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نوّع في نبرة وسرعة الصوت والحما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253044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تأكّد من لفظ الكلمات بالشكل الصحيح (راجع الكلمات الصعبة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132000"/>
            <a:ext cx="71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اركّز على الكلمات المهمّة والقو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85272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أعيد العبارات الهامة بشكل مغاير ( في سرعة ونبرة الصوت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4572000"/>
            <a:ext cx="711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سرعة الصوت اجعله متنوعاً، للفكاهات اجعله سريعاً، في الأمور الحزينة والهامة جداً اجعله بطيئا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5437080"/>
            <a:ext cx="711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cs typeface="Simplified Arabic"/>
              </a:rPr>
              <a:t>يلزم أن اوضّح صوتي وأن اجعله أعلى من المعتا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407360" y="1547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7407360" y="2771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407360" y="219564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7407360" y="3348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7407360" y="406872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407360" y="4788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7407360" y="572436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8CC2-1C4D-4F2C-9DCD-843B56E280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2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3000"/>
                            </p:stCondLst>
                            <p:childTnLst>
                              <p:par>
                                <p:cTn id="9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3500"/>
                            </p:stCondLst>
                            <p:childTnLst>
                              <p:par>
                                <p:cTn id="9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1500"/>
                            </p:stCondLst>
                            <p:childTnLst>
                              <p:par>
                                <p:cTn id="9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9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500"/>
                            </p:stCondLst>
                            <p:childTnLst>
                              <p:par>
                                <p:cTn id="9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457200"/>
            <a:ext cx="87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خّن صوتي ( انها لحظات تاريخية لن تتكرر .. ابدأ بحيوي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42920" y="21337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خدم الصوت للتأثير على الكلمات التي تريد التركيز علي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1033560"/>
            <a:ext cx="828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ن لا اكون مملاً ( نبرة الصوت ثابت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1609560"/>
            <a:ext cx="59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سرعة، النبرة، الحدّة،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58920" y="2819520"/>
            <a:ext cx="749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ان لا اخشى الوقفات أثناء الحديث ( فن الوقفات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42900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ذر الصوت المرتفع للغاية، أو المنخفض للغاية، أو الصـاخب للغاية، أو الحاد للغاية، فإنها تصرف المستمع عن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95680"/>
            <a:ext cx="876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سرع للفكاهة والمعلومات الحيوية، أبطئ للفكرة المعقّدة، الفكرة الجادة، نهاية النكته، للإثارة، للأشياء الحزين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EA86-E5AA-4718-9DD8-FB3E62BF56B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72200" y="135000"/>
            <a:ext cx="297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فلأكن 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أن</a:t>
            </a: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ا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 ...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6922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حدّث على سجيّ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بدون تكلّ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197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حـذر أن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لّد غير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سـواء في صوتـه أو نبرتـه أو هندامه ( اخلق تميزّ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خاص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205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ن اكون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طبيعياً في حركا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، بدون حركة سريعة أو بطيئة جد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4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حذر التقعّر أو التكلّف في الكلام (الفصحى المبالغ فيها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846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عند الضحك اضحك مع الحضور، وعند الأمور الحزينة احزن معهم ( تفاعل مع الحضو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2339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بحث بجد عن آخر المعلومات والإحصاءات في مجال المحاضرة ( جدد معلوماتك باستمرار،، جدد .. 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جدد  .. جدد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229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7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نفعل مع الحديـث، اغضـب، اضحـك، اسخر ... وليكن ذلك واضحاً في نبرات صوت</a:t>
            </a:r>
            <a:r>
              <a:rPr b="1" lang="ar-AE" sz="32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15920"/>
            <a:ext cx="572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م</a:t>
            </a:r>
            <a:r>
              <a:rPr b="1" lang="ar-SA" sz="4000" spc="-1" strike="noStrike">
                <a:solidFill>
                  <a:srgbClr val="333399"/>
                </a:solidFill>
                <a:latin typeface="Times New Roman"/>
                <a:cs typeface="Simplified Arabic"/>
              </a:rPr>
              <a:t>حاضراً متميزاً 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9D15-95B8-4B9B-9554-4ADC9D074244}" type="slidenum">
              <a:t>28</a:t>
            </a:fld>
          </a:p>
        </p:txBody>
      </p:sp>
    </p:spTree>
  </p:cSld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2781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بدأ الاتصال بالعين في نهاية الفكرة أو الجمل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5573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انظر إلى الجميع، وبشكل دوري،، لا اركّز على شخص واحد أو جهة واحدة ( قد اربكه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42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نظر إلى النافذة ,, الحضور سيفعل نفس الشيء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076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ركّز على جهة واحدة فقط ... سأخسر الآخرين حتم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89000"/>
            <a:ext cx="8937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النظر قد يقتل أو يحيي محاضرتي 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ea typeface="Simplified Arabic"/>
              </a:rPr>
              <a:t> لذا علي ملاحظة الآت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60" y="4724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نسى أن انظر إلى الصفوف الخلف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410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لا ادع المذكرات تسرقني  من جمهور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E302-8100-443A-A993-6B0BBDD6FB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0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71480" y="228600"/>
            <a:ext cx="776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5400" spc="-1" strike="noStrike">
                <a:solidFill>
                  <a:srgbClr val="990000"/>
                </a:solidFill>
                <a:latin typeface="Arial"/>
                <a:cs typeface="PT Bold Heading"/>
              </a:rPr>
              <a:t>مهارات العرض والإلقاء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0280" y="1523880"/>
            <a:ext cx="8578800" cy="54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* ما هو التدريب...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وما الذي نعنيه بهذا المفهوم...؟ وما الذي يتضمنه...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أحد أهم آليات التعليم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عملية إيصال مادة ما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لمتلقي ما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PT Bold Heading"/>
              </a:rPr>
              <a:t>لتغيير مهارة أو نمط أو سلوك م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(التعليم... عملية تغيير تستند إلى التعريف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مرسل... المادة... المرسل إليه/إليها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8D8-F640-49C3-80E4-B06833C62F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08280" y="360360"/>
            <a:ext cx="96706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إذا كنت اقرأ من المذكرات .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يجب علي أن أضع هذه النقاط في اعتبار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859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بدأ الحديث بدون النظر إلى المذكرات ( ستكون بداية قوية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5448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أكون متمرساً ومتدرباً على مذكراتي (أحضّر، أحضّر ، وأحضّ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33684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إذا كانت هناك إحصائيات وأرقـام، يفضّل أن اقرأها من المذكر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يعطي مصداقية أكب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64000" y="4830840"/>
            <a:ext cx="55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جعل نظراتي خاطفة على المذك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5592600"/>
            <a:ext cx="88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ا العب مع مذكراتي ( سوف يوضّح للحضور بأني متوتر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76C9-41F5-4D9E-A54D-5E40C6A89C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0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297840" y="1133640"/>
            <a:ext cx="32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موظف البن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54840" y="1925640"/>
            <a:ext cx="25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تسوّ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0360" y="2930400"/>
            <a:ext cx="32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باحث عن 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3780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يجب أن أحذر أن أكون مثل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19640" y="142236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210280" y="221472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210280" y="3294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111924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لعملات المعدنية التي بجيب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36360" y="192564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شبك كلتا يدي وأؤشر على الحضور وكأنني يتسول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99556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الحضور يعلم أنني متوتر، ولكنه سيسأل متى آخر مرة استحممت فيها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64360" y="3941640"/>
            <a:ext cx="19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عقّ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210280" y="4302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8000" y="3998880"/>
            <a:ext cx="48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شبك كلتا يدي وكأنني أغسلهما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77080" y="4586400"/>
            <a:ext cx="226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جواهر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5219640" y="49500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8000" y="4662360"/>
            <a:ext cx="485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مجوهراتي، ساعت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B67B-3DE4-49E9-A08B-2490FE597E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0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500"/>
                            </p:stCondLst>
                            <p:childTnLst>
                              <p:par>
                                <p:cTn id="13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fill="hold">
                            <p:stCondLst>
                              <p:cond delay="5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500"/>
                            </p:stCondLst>
                            <p:childTnLst>
                              <p:par>
                                <p:cTn id="1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838120" y="1136520"/>
            <a:ext cx="38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عاشق الوله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5640" y="1928880"/>
            <a:ext cx="33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طبيب العي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0360" y="279396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8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خيّا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3808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يجب أن أحذر أن أكون مثل 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5219640" y="14256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210280" y="221760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210280" y="315288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122480"/>
            <a:ext cx="49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حضن نفسي أمام الحضور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36360" y="1928880"/>
            <a:ext cx="50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ستمرار ينظارتي .. هل هي فوق أم تحت ؟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228600" y="2865600"/>
            <a:ext cx="516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منشغل بملابسي وهندامي بصورة مزعج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3586320"/>
            <a:ext cx="197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9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شاغ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210280" y="3944880"/>
            <a:ext cx="946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8000" y="3657600"/>
            <a:ext cx="485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cs typeface="Simplified Arabic"/>
              </a:rPr>
              <a:t>ألعب بالقلم، المؤشر، أي شي أجده أمامه ... وهذا يزعج الحضو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50C7-5117-4549-8FE7-938C4738D9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fill="hold">
                            <p:stCondLst>
                              <p:cond delay="500"/>
                            </p:stCondLst>
                            <p:childTnLst>
                              <p:par>
                                <p:cTn id="14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835280" y="1519200"/>
            <a:ext cx="70516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فوائد الوقف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401920"/>
            <a:ext cx="889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على التركيز في المحاضر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187280" y="3049560"/>
            <a:ext cx="770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في السيطرة على الحضور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87280" y="36972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اعدني على جمع شتات أفكاري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4327560"/>
            <a:ext cx="889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40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وقفات لن تنسيني ما قلت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5B2-0D74-4B2B-AE1F-333235313A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0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1523880" y="260280"/>
            <a:ext cx="586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ولكن كيف؟.. ومتى أقف؟؟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1630440"/>
            <a:ext cx="28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بعد البد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162864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الكل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92720" y="249228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أن تسأ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249228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البند الجدي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32004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عند حدوث أي إزعا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3357720"/>
            <a:ext cx="287964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عند التصفي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41148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قبل فترة الاسترا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42210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بعد الكلمة الأخي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8120" y="5257800"/>
            <a:ext cx="287964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</a:rPr>
              <a:t>وقبل قولي ( شكراً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9D0B-E298-4A02-B7EA-8A12FA167A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8" dur="77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9" dur="770" fill="hold"/>
                                        <p:tgtEl>
                                          <p:spTgt spid="2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1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3" dur="77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77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0" dur="770" fill="hold"/>
                                        <p:tgtEl>
                                          <p:spTgt spid="2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2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4" dur="77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0" dur="77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1" dur="770" fill="hold"/>
                                        <p:tgtEl>
                                          <p:spTgt spid="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3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5" dur="77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77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2" dur="770" fill="hold"/>
                                        <p:tgtEl>
                                          <p:spTgt spid="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4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6" dur="77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2" dur="77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3" dur="770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5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7" dur="77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3" dur="77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4" dur="770" fill="hold"/>
                                        <p:tgtEl>
                                          <p:spTgt spid="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6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8" dur="77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77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5" dur="770" fill="hold"/>
                                        <p:tgtEl>
                                          <p:spTgt spid="2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7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9" dur="77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5" dur="77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6" dur="770" fill="hold"/>
                                        <p:tgtEl>
                                          <p:spTgt spid="2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98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00" dur="77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6" dur="77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7" dur="770" fill="hold"/>
                                        <p:tgtEl>
                                          <p:spTgt spid="2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09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11" dur="77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22096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جعلها طويلة ( تعكس التردد وعدم التحضير 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692360" y="131904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أجعل وقفاتي بالطول نفسه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310824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توقف عن الحديث وسط الجمل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03280" y="387036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333399"/>
                </a:solidFill>
                <a:latin typeface="Arial"/>
                <a:ea typeface="Simplified Arabic"/>
              </a:rPr>
              <a:t>* أن اتوقف طويلاً ضمن الفكرة الواحدة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11640" y="304920"/>
            <a:ext cx="47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ولكن علي الحذر من...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CCC-5A0D-4AD7-BA8E-958B1ACCC9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0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9" dur="8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8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8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039280" y="1554120"/>
            <a:ext cx="44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سلوكيات اجتماعي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923200" y="2163600"/>
            <a:ext cx="704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إدارة الفصل (عيب في المدرس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3360" y="2849400"/>
            <a:ext cx="32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ثقة بالنف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699520" y="3459240"/>
            <a:ext cx="377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فاوت الثقاف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401120" y="380880"/>
            <a:ext cx="91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لماذا لا يتجاوب المتدربون في القاعة؟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799800" y="3992400"/>
            <a:ext cx="60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فاوت المستويات التعليم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471-7675-466D-98B7-39C47B70BD6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fill="hold">
                      <p:stCondLst>
                        <p:cond delay="indefinite"/>
                      </p:stCondLst>
                      <p:childTnLst>
                        <p:par>
                          <p:cTn id="1670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380880"/>
            <a:ext cx="914400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كيف يمكنني التأكد من وصول المعلومة ..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أو تأثير المعلومة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55920" y="1922400"/>
            <a:ext cx="37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طويل المدى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18080" y="3836880"/>
            <a:ext cx="340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قصير المدى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284720" y="2610000"/>
            <a:ext cx="379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تغيير في السلوك العا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003640" y="3117960"/>
            <a:ext cx="30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استبيان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4481640"/>
            <a:ext cx="27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أسئلة الشفو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148360" y="5057640"/>
            <a:ext cx="293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* النقاش المفتو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8028000" y="1995480"/>
            <a:ext cx="455760" cy="4557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tretch/>
        </p:blipFill>
        <p:spPr>
          <a:xfrm>
            <a:off x="8101080" y="3930480"/>
            <a:ext cx="411120" cy="41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92C-E9A4-49C8-8331-ACDEE68035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5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889640" y="380880"/>
            <a:ext cx="84333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فوائد السؤال ... لماذا نسأل؟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50920" y="1193760"/>
            <a:ext cx="6707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شجيع الحضور على المشا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3520" y="1843200"/>
            <a:ext cx="822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قييم تحضير المتدربين لواجباتهم,المراجعة والتلخي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635280" y="3214800"/>
            <a:ext cx="51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أكد من وصول المعلو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946680"/>
            <a:ext cx="8756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نمية حب الاستطلاع والتعلم الذاتي تنمية مهارات التفك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4708440"/>
            <a:ext cx="746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سيطرة على الحضور, لفت انظار المشاكس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2120" y="2498760"/>
            <a:ext cx="792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سر الحاجز النفسي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Simplified Arabic"/>
              </a:rPr>
              <a:t>Ice Bre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C47-6331-408A-89F3-966BEC0FBE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0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9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3533400" y="380880"/>
            <a:ext cx="6250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أسئلة يجب أن أتجنبها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84360" y="1401840"/>
            <a:ext cx="640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مباشرة في بدايات المحاض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21636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تي تسأل عن العرق والأصل ( محرجة نوعاً ما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00360" y="28494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ن العمر ( خاصة للنساء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564000" y="3459240"/>
            <a:ext cx="541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ن الحالة الاجتماع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40384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فاصيل الشخص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771640" y="4678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أسئلة التي تدور حول المدر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1B34-075F-448C-9208-992A5DE616F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1" dur="indefinite" restart="never" nodeType="tmRoot">
          <p:childTnLst>
            <p:seq>
              <p:cTn id="1802" dur="indefinite" nodeType="mainSeq">
                <p:childTnLst>
                  <p:par>
                    <p:cTn id="1803" fill="hold">
                      <p:stCondLst>
                        <p:cond delay="0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1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1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633240"/>
            <a:ext cx="861048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500" spc="-1" strike="noStrike">
                <a:solidFill>
                  <a:srgbClr val="990000"/>
                </a:solidFill>
                <a:latin typeface="Arial"/>
                <a:cs typeface="PT Bold Heading"/>
              </a:rPr>
              <a:t>الخطابة</a:t>
            </a:r>
            <a:r>
              <a:rPr b="1" lang="ar-AE" sz="5500" spc="-1" strike="noStrike">
                <a:solidFill>
                  <a:srgbClr val="990000"/>
                </a:solidFill>
                <a:latin typeface="Arial"/>
                <a:ea typeface="PT Bold Heading"/>
              </a:rPr>
              <a:t>:</a:t>
            </a:r>
            <a:r>
              <a:rPr b="1" lang="ar-AE" sz="55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مشافهة الجمهور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أثير عليهم أو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استمالتهم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إيصال خبر أو فكرة ما لمجموعـة من السامعين بشكل مقنع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ومؤثر ومغير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*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ابن سينا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: (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وحسبها شرفا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أنها وظيفة قادة الأمم من الأنبياء والمرسلين ومن شاكلهم من العلماء والعاملين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 وعظماء الملوك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 </a:t>
            </a:r>
            <a:r>
              <a:rPr b="1" lang="ar-SA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وكبار الساسة</a:t>
            </a:r>
            <a:r>
              <a:rPr b="1" lang="ar-AE" sz="3300" spc="-1" strike="noStrike">
                <a:solidFill>
                  <a:srgbClr val="000000"/>
                </a:solidFill>
                <a:latin typeface="Arial"/>
                <a:ea typeface="PT Bold Heading"/>
              </a:rPr>
              <a:t>...)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774-57DF-41C7-88CA-8EF8596F22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979080" y="380880"/>
            <a:ext cx="5775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خصائص الأسئلة الجيد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00720" y="1319040"/>
            <a:ext cx="439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باشرة وبساطة اللغ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43000" y="129528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ووضوح ودقة المعنى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32360" y="198108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سلسل المنطق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716360" y="2743200"/>
            <a:ext cx="41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مراعاة قدرات المتدر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84720" y="3352680"/>
            <a:ext cx="458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شارة تفكير الطلب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95640" y="4038480"/>
            <a:ext cx="486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نوع في الأسئلة والأسلو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C38-9927-493A-85FE-EE789D06555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fill="hold">
                      <p:stCondLst>
                        <p:cond delay="0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67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7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1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8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9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301680"/>
            <a:ext cx="8610480" cy="83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مهارات التعامل م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الأعمار والأجناس والطوائف المختلفة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رجال... (الأمثلة العملية الوظيفي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نساء... (لفظ المؤنث... الحياة الاجتماعية... التقدير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شباب... (الأمثلة الحياتية... الاهتمامات... الأمثلة الإيجابي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طلاب... (المناهج الدراسية... الحياة داخل المدرسة... البيت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ديانات والأفكار والفلسفات... (الطرح بالحيادية التام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أجناس والطوائف والمذاهب... (تجنب النقاط المثيرة للإزعاج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* الفئات الخاصة...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629-855E-4436-A50C-963E92854A2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3" dur="indefinite" restart="never" nodeType="tmRoot">
          <p:childTnLst>
            <p:seq>
              <p:cTn id="1904" dur="indefinite" nodeType="mainSeq">
                <p:childTnLst>
                  <p:par>
                    <p:cTn id="1905" fill="hold">
                      <p:stCondLst>
                        <p:cond delay="0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763640" y="579600"/>
            <a:ext cx="5688000" cy="11966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800000"/>
                </a:solidFill>
                <a:latin typeface="Arial"/>
              </a:rPr>
              <a:t>العوامل التي تؤثر على التعلّم</a:t>
            </a:r>
            <a:r>
              <a:rPr b="1" lang="ar-AE" sz="4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2720" y="1847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محــاض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0920" y="1847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مادة (الموضو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422424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بيئــ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2639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جمهور (العدد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34322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عمــــ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920" y="34322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أدوات التعليم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422604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الإبـــدا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292720" y="263988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000000"/>
                </a:solidFill>
                <a:latin typeface="Arial"/>
              </a:rPr>
              <a:t>مستوى التعل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5181480"/>
            <a:ext cx="864216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هناك عوامل يمكن التحكم به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CB6D-A409-4A3F-A3ED-926255E0FB7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2" dur="indefinite" restart="never" nodeType="tmRoot">
          <p:childTnLst>
            <p:seq>
              <p:cTn id="1913" dur="indefinite" nodeType="mainSeq">
                <p:childTnLst>
                  <p:par>
                    <p:cTn id="1914" fill="hold">
                      <p:stCondLst>
                        <p:cond delay="0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9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4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7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8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9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8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52280" y="295200"/>
            <a:ext cx="883944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معوقات مرتبطة بالمرسل/ المرسلة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رغبة القوية في التأثير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وف من الارتباك أو الإحراج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فهم التام للموضوع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ستخدام جمل وعبارات وكلمات غامضة... (المستوى الثقافي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لفظ بجملً غير صحيحة... متقطعة... وغير تام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صغاء 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جيد والعملي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للتغذية الراجعة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م طريقة واحدة للاتصال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8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محاولة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رباك أو التشويش عن عمد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9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ترتيب الماد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151E-40FF-4C26-B61C-0BFE0A575E9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8" dur="indefinite" restart="never" nodeType="tmRoot">
          <p:childTnLst>
            <p:seq>
              <p:cTn id="1989" dur="indefinite" nodeType="mainSeq">
                <p:childTnLst>
                  <p:par>
                    <p:cTn id="1990" fill="hold">
                      <p:stCondLst>
                        <p:cond delay="0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4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720720"/>
            <a:ext cx="8305920" cy="66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ب- معوقات مرتبطة بالمتلقي/ المتلقية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صور المغلوط لما تم شرحه... (سوء الفهم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نتقاد المبالغ فيه... (الانتقاد لغرض الانتقاد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خجل أو الكبر... (عدم الاستفسار عما يجهله/ تجهله)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حكم السريع والرفض المسبق لشخصية المدرب/ المدربة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شعور بقلة الاهتمام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شرود الذهن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عدم الرغبة الحقيقية في التغيير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10C-A932-478D-9131-7B12BDB3C14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fill="hold">
                      <p:stCondLst>
                        <p:cond delay="0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1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57200" y="914400"/>
            <a:ext cx="8305920" cy="48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900" spc="-1" strike="noStrike">
                <a:solidFill>
                  <a:srgbClr val="990000"/>
                </a:solidFill>
                <a:latin typeface="Arial"/>
                <a:cs typeface="PT Bold Heading"/>
              </a:rPr>
              <a:t>معوقات الاتصال الفعال..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300" spc="-1" strike="noStrike">
                <a:solidFill>
                  <a:srgbClr val="000000"/>
                </a:solidFill>
                <a:latin typeface="Arial"/>
                <a:cs typeface="PT Bold Heading"/>
              </a:rPr>
              <a:t>ج- معوقات عامة..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توقيت 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سيئ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إرهاق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تقنيات اتصال ضعيفة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الضغط الزائد من أجل النتائج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ضغط كبير في الوقت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إحباط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- </a:t>
            </a:r>
            <a:r>
              <a:rPr b="1" lang="ar-SA" sz="2900" spc="-1" strike="noStrike">
                <a:solidFill>
                  <a:srgbClr val="000000"/>
                </a:solidFill>
                <a:latin typeface="Arial"/>
                <a:cs typeface="PT Bold Heading"/>
              </a:rPr>
              <a:t>ليس هناك نظام عام</a:t>
            </a:r>
            <a:r>
              <a:rPr b="1" lang="ar-AE" sz="2900" spc="-1" strike="noStrike">
                <a:solidFill>
                  <a:srgbClr val="000000"/>
                </a:solidFill>
                <a:latin typeface="Arial"/>
                <a:ea typeface="PT Bold Heading"/>
              </a:rPr>
              <a:t>..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C785-D96A-4F32-BDDF-98E93D757A7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fill="hold">
                      <p:stCondLst>
                        <p:cond delay="0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لماذا يوجد مشاكسو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19640" y="1649520"/>
            <a:ext cx="368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قد كنت مجحفاً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1676520"/>
            <a:ext cx="483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لقد كنت كثير التوجي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79640" y="2286000"/>
            <a:ext cx="692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واثقاً من نفسي بصورة زائدة عن ال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59280" y="2895480"/>
            <a:ext cx="58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تدرب على فن الإلق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780000" y="4221000"/>
            <a:ext cx="5122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ظهر كيف أطوّع المعلوم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-685800" y="1676520"/>
            <a:ext cx="382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لم أكن صبور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19280" y="3505320"/>
            <a:ext cx="728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حافظ على وعودي .. ( الوقت، .. الخ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2000" y="4876920"/>
            <a:ext cx="577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تعاملت مع الحضور كما لو كانوا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5440320"/>
            <a:ext cx="541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دع لهم فرصة المشا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EA01-1AF4-4D8B-AD16-7E10288E679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9" dur="indefinite" restart="never" nodeType="tmRoot">
          <p:childTnLst>
            <p:seq>
              <p:cTn id="2010" dur="indefinite" nodeType="mainSeq">
                <p:childTnLst>
                  <p:par>
                    <p:cTn id="2011" fill="hold">
                      <p:stCondLst>
                        <p:cond delay="0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1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2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0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65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990000"/>
                </a:solidFill>
                <a:uFillTx/>
                <a:latin typeface="Arial"/>
                <a:cs typeface="Simplified Arabic"/>
              </a:rPr>
              <a:t>لماذا يوجد مشاكسو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43280" y="1371600"/>
            <a:ext cx="423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ستطع أن أسكن خوف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32000" y="1998720"/>
            <a:ext cx="574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صغيراً جداً / عديم الخب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-1535040" y="2011320"/>
            <a:ext cx="603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كنت كبيراً جداً وفاقد السيط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284720" y="2590920"/>
            <a:ext cx="458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قمت بتغيير أماكن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27280" y="3200400"/>
            <a:ext cx="624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خفّضت عليهم فترات الاسترا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35520" y="3809880"/>
            <a:ext cx="31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لم أكن مرتبا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735520" y="4343400"/>
            <a:ext cx="313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نسيت أسمائ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029120" y="4952880"/>
            <a:ext cx="484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حساساً زيادة عن اللز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164120" y="5562720"/>
            <a:ext cx="47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كنت نظرياً زيادة عن اللزو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31C-FE33-411B-9E7D-07C747C2E74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1" dur="indefinite" restart="never" nodeType="tmRoot">
          <p:childTnLst>
            <p:seq>
              <p:cTn id="2082" dur="indefinite" nodeType="mainSeq">
                <p:childTnLst>
                  <p:par>
                    <p:cTn id="2083" fill="hold">
                      <p:stCondLst>
                        <p:cond delay="0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fill="hold">
                      <p:stCondLst>
                        <p:cond delay="indefinite"/>
                      </p:stCondLst>
                      <p:childTnLst>
                        <p:par>
                          <p:cTn id="2105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8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5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1822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ستمع لما اريد قوله ..أو يشاهد ما اريد عرضه(ديل كارينجي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6576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أخذ المبادرة والفعل بالتوافق مع مجمل أهداف المحاضر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438280"/>
            <a:ext cx="75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فهم ويستوعب القصد من الحديث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54040" y="3048120"/>
            <a:ext cx="768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99"/>
                </a:solidFill>
                <a:latin typeface="Arial"/>
                <a:ea typeface="Simplified Arabic"/>
              </a:rPr>
              <a:t>- يتفق مع ما سمعه وشاهد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7200" y="533520"/>
            <a:ext cx="895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لن يحقق العرض المستوى المطلوب من النجاح إلا إذا نجحت في جعل الحضور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E788-C0E0-43EB-A0C5-EC085BBAD12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6" dur="indefinite" restart="never" nodeType="tmRoot">
          <p:childTnLst>
            <p:seq>
              <p:cTn id="2147" dur="indefinite" nodeType="mainSeq">
                <p:childTnLst>
                  <p:par>
                    <p:cTn id="2148" fill="hold">
                      <p:stCondLst>
                        <p:cond delay="0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4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0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7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6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4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11280" y="26028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عند تصميم البرنامج التدريبي،علي تجنّب ما يلي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1125360"/>
            <a:ext cx="898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المادة قد حضّرت لمجال تدريبي مختلف أو لنوع آخر من المتدرب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8920" y="220176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غير مطابقة للزمن الذي يحصل فيه التدري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5920" y="277812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القائمة جامدة وغير قابلة للتواف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8000" y="33544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المواد لم تحقق نجاحاً في الماض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8000" y="393372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واد القائمة جمعت من مصادر كثيرة بحيث تبدو مفككة وغير متناس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2920" y="49370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المواد مطابقة لحالة بلد معين فق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2920" y="551340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المواد من النوع الذي يتضمن حقوق النشر والاستعم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9555-4AA0-4F85-948B-20F2F5291A31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7" dur="indefinite" restart="never" nodeType="tmRoot">
          <p:childTnLst>
            <p:seq>
              <p:cTn id="2188" dur="indefinite" nodeType="mainSeq">
                <p:childTnLst>
                  <p:par>
                    <p:cTn id="2189" fill="hold">
                      <p:stCondLst>
                        <p:cond delay="0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0" fill="hold">
                      <p:stCondLst>
                        <p:cond delay="indefinite"/>
                      </p:stCondLst>
                      <p:childTnLst>
                        <p:par>
                          <p:cTn id="2231" fill="hold">
                            <p:stCondLst>
                              <p:cond delay="0"/>
                            </p:stCondLst>
                            <p:childTnLst>
                              <p:par>
                                <p:cTn id="2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380880"/>
            <a:ext cx="8664480" cy="75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أهمية الخطابة والعرض والإلقاء</a:t>
            </a:r>
            <a:r>
              <a:rPr b="1" lang="ar-AE" sz="4000" spc="-1" strike="noStrike">
                <a:solidFill>
                  <a:srgbClr val="990000"/>
                </a:solidFill>
                <a:latin typeface="Arial"/>
                <a:ea typeface="PT Bold Heading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لضرورة التواصل الإنساني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تغير خطبة ما فردا أو أكثر... أو مجتمعا بأكمله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يتم اتخاذ قرارات مصيرية وهامة بناء على أسلوبي في العرض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يؤثر على سمعة مؤسستي وعملي (والأهم سمعتي أنا... بلا شك...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حدث في اجتماعات داخلية أو خارجية لشرح وجهة نظر المؤسسة... أ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حدث أمام لجنة أو مجلس إدارة أو في مؤتمر عام أو في ورشة عمل أو في مناسبات اجتماعية مختلفة... أو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  <a:ea typeface="PT Bold Heading"/>
              </a:rPr>
              <a:t>- قد أتكلم أمام أناس أعرفهم... أو لا أعرفهم... أقل مني ثقافة... أو أعلى... دوني أكاديميا... من جنسي...أو من الجنس الآخر... أكبر سنا... أو أصغر... عدد كبير... أو أفراد محدودين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D44-C1C8-458A-B3ED-F9F3DA3165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078200" y="1355760"/>
            <a:ext cx="90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رغبة والإصرار والصبر/ العمل مع الاخر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-709200" y="2011320"/>
            <a:ext cx="113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عرف واحدد ماذا اريد( احقق ذاتي/ 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سجّل اسمي في التاريخ</a:t>
            </a:r>
            <a:r>
              <a:rPr b="0" lang="ar-A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54240" y="2697120"/>
            <a:ext cx="1011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تفوق والحماس/ الشعور بالمسؤولية/المصداق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3320" y="3306600"/>
            <a:ext cx="1038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ثقة الداخلية/ الاعتزاز بالنفس/ الايمان بما اقول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56240" y="228600"/>
            <a:ext cx="73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المهارات التي يجب أن تتوافر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Simplified Arabic"/>
              </a:rPr>
              <a:t>في شخصيتي لكي أصبح مدربا؟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-1658880" y="3916440"/>
            <a:ext cx="124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ستطيع ان احلل الاحتياجات/ الوضع/العلم والتحضير المسب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53640" y="4572000"/>
            <a:ext cx="944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تفتح والتعاون/الاستفادة من خبرات الا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وفوق كل ذي علم عليم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855520" y="5592600"/>
            <a:ext cx="70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* الخبرة/ تطور المستوى باستمرا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3795-19F3-4F35-8304-436A86CE0E2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6" dur="indefinite" restart="never" nodeType="tmRoot">
          <p:childTnLst>
            <p:seq>
              <p:cTn id="2237" dur="indefinite" nodeType="mainSeq">
                <p:childTnLst>
                  <p:par>
                    <p:cTn id="2238" fill="hold">
                      <p:stCondLst>
                        <p:cond delay="0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0" fill="hold">
                      <p:stCondLst>
                        <p:cond delay="indefinite"/>
                      </p:stCondLst>
                      <p:childTnLst>
                        <p:par>
                          <p:cTn id="2271" fill="hold">
                            <p:stCondLst>
                              <p:cond delay="0"/>
                            </p:stCondLst>
                            <p:childTnLst>
                              <p:par>
                                <p:cTn id="2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16560" y="593640"/>
            <a:ext cx="7232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ماذا سيحدث إذا لم أتدرب...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04920" y="1600200"/>
            <a:ext cx="852948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طرف بعيني بشكل متكرر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بحث عن الكلمات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لن أكون منظّما... وسأرتبك وأقول ما يخطر على بالي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قول (آآآ) مرات كثيرة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3100" spc="-1" strike="noStrike">
                <a:solidFill>
                  <a:srgbClr val="000000"/>
                </a:solidFill>
                <a:latin typeface="Arial"/>
                <a:ea typeface="PT Bold Heading"/>
              </a:rPr>
              <a:t>- سأبحث في الصفحة عن الجملة التي كنت سأقرؤها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A65E-E337-4A45-BB39-552860B007D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0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3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1522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يجب أن</a:t>
            </a: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a50021"/>
                </a:solidFill>
                <a:latin typeface="Arial"/>
              </a:rPr>
              <a:t>احذر من تكرار نفسي كل مرة وفي كل محاضر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” </a:t>
            </a: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لا تقع في مصيدة النشاط التقليدية</a:t>
            </a:r>
            <a:r>
              <a:rPr b="1" lang="ar-AE" sz="4400" spc="-1" strike="noStrike">
                <a:solidFill>
                  <a:srgbClr val="333399"/>
                </a:solidFill>
                <a:latin typeface="Arial"/>
              </a:rPr>
              <a:t>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68128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45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من الوقت في الاتصال المباشر بالمتدربين وإلقاء المحاض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11280" y="336708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5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في البحث وإعداد الموضوع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71640" y="400680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8%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 في تنمية الفاعلية الذاتية، وحضور المؤتمرات والدورات والبحث في الأساليب الجديدة للمتدربي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76360" y="5043600"/>
            <a:ext cx="73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  <a:ea typeface="Simplified Arabic"/>
              </a:rPr>
              <a:t>2%</a:t>
            </a:r>
            <a:r>
              <a:rPr b="1" lang="ar-AE" sz="2800" spc="-1" strike="noStrike">
                <a:solidFill>
                  <a:srgbClr val="ff0000"/>
                </a:solidFill>
                <a:latin typeface="Arial"/>
                <a:ea typeface="Simplified Arabic"/>
              </a:rPr>
              <a:t>  </a:t>
            </a:r>
            <a:r>
              <a:rPr b="1" lang="ar-AE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ي التفكير خارج نطاق المؤسسة، والأفكار الإبداع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BE9-9086-4C1B-A13E-4765FCB1208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4" dur="indefinite" restart="never" nodeType="tmRoot">
          <p:childTnLst>
            <p:seq>
              <p:cTn id="2305" dur="indefinite" nodeType="mainSeq">
                <p:childTnLst>
                  <p:par>
                    <p:cTn id="2306" fill="hold">
                      <p:stCondLst>
                        <p:cond delay="0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8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5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9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0" y="1955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كرّر الاسم في ذهني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1260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سمع الاسم جيدا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2711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كرّر الاسم قدر المستطاع أثناء التدري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473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أنظر إلى السمات البارزة في المتدرب واربطها بالاس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533520"/>
            <a:ext cx="893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مهارة تذكّر أسماء المتدربين 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360" y="4295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- من الأفضل أن أستخدم بطاقات تعريف الاسم ما أمكن ذلك 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( اكتب اسمك على هواك )</a:t>
            </a:r>
            <a:r>
              <a:rPr b="1" lang="ar-AE" sz="3600" spc="-1" strike="noStrike">
                <a:solidFill>
                  <a:srgbClr val="333399"/>
                </a:solidFill>
                <a:latin typeface="Arial"/>
                <a:ea typeface="Simplified Arab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5E5D-C57D-4558-84DD-C1E47C7FE22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0" dur="indefinite" restart="never" nodeType="tmRoot">
          <p:childTnLst>
            <p:seq>
              <p:cTn id="2341" dur="indefinite" nodeType="mainSeq">
                <p:childTnLst>
                  <p:par>
                    <p:cTn id="2342" fill="hold">
                      <p:stCondLst>
                        <p:cond delay="0"/>
                      </p:stCondLst>
                      <p:childTnLst>
                        <p:par>
                          <p:cTn id="2343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2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6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1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-1374840" y="390600"/>
            <a:ext cx="12092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cs typeface="PT Bold Heading"/>
              </a:rPr>
              <a:t>أريد أن أصبح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>
                <a:solidFill>
                  <a:srgbClr val="990000"/>
                </a:solidFill>
                <a:latin typeface="Arial"/>
                <a:ea typeface="PT Bold Heading"/>
              </a:rPr>
              <a:t>      محاضرا محترفا/ محاضرة محترفة... كيف...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2039760"/>
            <a:ext cx="8148600" cy="54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ستعداد التام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ختيار مستشارين ومستشارات متميزين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شتراك في دورات مشهود لها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كتابة ملخّص عن المادة التدريبية (أو موضوع المحاضرة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التحاق بحلقات تدريب المدربين والمدربات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تقديم دورتي الأولى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2700" spc="-1" strike="noStrike">
                <a:solidFill>
                  <a:srgbClr val="000000"/>
                </a:solidFill>
                <a:latin typeface="Arial"/>
                <a:ea typeface="PT Bold Heading"/>
              </a:rPr>
              <a:t>- التقييم والمراجعة المستمرة (قياس فجوة الأداء)..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4000" y="3497400"/>
            <a:ext cx="5194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3C18-DA4E-4FED-90AE-BED7BB6B419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4" dur="indefinite" restart="never" nodeType="tmRoot">
          <p:childTnLst>
            <p:seq>
              <p:cTn id="2385" dur="indefinite" nodeType="mainSeq">
                <p:childTnLst>
                  <p:par>
                    <p:cTn id="2386" fill="hold">
                      <p:stCondLst>
                        <p:cond delay="0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4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7009200" y="2077920"/>
            <a:ext cx="242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يزان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11760" y="2711520"/>
            <a:ext cx="715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هداف, الاحتياجات التدريب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2720" y="3397320"/>
            <a:ext cx="102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عرّف على خصائص المتدربين, ماذا يريدون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691240" y="1301760"/>
            <a:ext cx="40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قبل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-274320" y="4083120"/>
            <a:ext cx="111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خطّط جيدا لعملية التدريب وارسم خريطة ذهن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-1487880" y="4800600"/>
            <a:ext cx="124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درّب جيدا على استخدام الأجهزة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تدرّب, تدرّب, تدرّب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200" y="5530680"/>
            <a:ext cx="1075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زّع المادة العلمية على المتدربين قبل الدور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EF5-7208-4950-A993-0EAAEC5BEFA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9" dur="indefinite" restart="never" nodeType="tmRoot">
          <p:childTnLst>
            <p:seq>
              <p:cTn id="2410" dur="indefinite" nodeType="mainSeq">
                <p:childTnLst>
                  <p:par>
                    <p:cTn id="2411" fill="hold">
                      <p:stCondLst>
                        <p:cond delay="0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4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8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5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691240" y="1184400"/>
            <a:ext cx="405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قبل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36504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37320" y="1954080"/>
            <a:ext cx="1022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حضور المبكر(النظر, المعدات, التوصيلات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89400" y="2579760"/>
            <a:ext cx="450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بعد عن الإنهاك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936600" y="3203640"/>
            <a:ext cx="60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ملابس بطريقة مريح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3798720"/>
            <a:ext cx="909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حضر معك </a:t>
            </a:r>
            <a:r>
              <a:rPr b="1" lang="ar-AE" sz="4400" spc="-1" strike="noStrike" u="sng">
                <a:solidFill>
                  <a:srgbClr val="a50021"/>
                </a:solidFill>
                <a:uFillTx/>
                <a:latin typeface="Arial"/>
                <a:cs typeface="Simplified Arabic"/>
              </a:rPr>
              <a:t>دائما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نسخاً احتياطية من المواد التعليمي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-99720" y="4616280"/>
            <a:ext cx="108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تلط مع المتدربين لخلق جو الألفة والتفاعل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5286240"/>
            <a:ext cx="910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صافح المتدربين لخلق جو الألفة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تذكر العادات الاجتماعية والشرع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979C-433E-4735-AB1C-7CAA40A58F5C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6" dur="indefinite" restart="never" nodeType="tmRoot">
          <p:childTnLst>
            <p:seq>
              <p:cTn id="2467" dur="indefinite" nodeType="mainSeq">
                <p:childTnLst>
                  <p:par>
                    <p:cTn id="2468" fill="hold">
                      <p:stCondLst>
                        <p:cond delay="0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4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1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9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3516120" y="13222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بداية جلسة التدريب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210680" y="2116080"/>
            <a:ext cx="929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افتتاح على مستوى عالي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قدر الإمكان )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289548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بدأ بنغمة عالية وصوت قوي وافتتاحية مؤث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ت رأسي .. يا صوت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40440" y="4038480"/>
            <a:ext cx="46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عرّف نفسك جيدا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-1321200" y="4768920"/>
            <a:ext cx="1241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طلب من الحضور تقديم أنفسهم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و عرّف زميلك/زميلتك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D6C-2BE1-4232-85BA-549AE444B8A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0" dur="indefinite" restart="never" nodeType="tmRoot">
          <p:childTnLst>
            <p:seq>
              <p:cTn id="2511" dur="indefinite" nodeType="mainSeq">
                <p:childTnLst>
                  <p:par>
                    <p:cTn id="2512" fill="hold">
                      <p:stCondLst>
                        <p:cond delay="0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0" fill="hold">
                      <p:stCondLst>
                        <p:cond delay="indefinite"/>
                      </p:stCondLst>
                      <p:childTnLst>
                        <p:par>
                          <p:cTn id="2521" fill="hold">
                            <p:stCondLst>
                              <p:cond delay="0"/>
                            </p:stCondLst>
                            <p:childTnLst>
                              <p:par>
                                <p:cTn id="25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fill="hold">
                      <p:stCondLst>
                        <p:cond delay="indefinite"/>
                      </p:stCondLst>
                      <p:childTnLst>
                        <p:par>
                          <p:cTn id="2535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516120" y="1322280"/>
            <a:ext cx="663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بداية جلسة التدريب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157480" y="2133720"/>
            <a:ext cx="82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رض اهدافك وجدولك الزمني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289548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رض أوقات الراحة وسجلها في مكان ظاه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Simplified Arabic"/>
              </a:rPr>
              <a:t>  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قواعد الدور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82720" y="4191120"/>
            <a:ext cx="86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لا تنتظر المتأخرين وأبدا في موعد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05680" y="4754520"/>
            <a:ext cx="828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لا تقم بتخليص ما فات على المتأخرين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1719000" y="5454720"/>
            <a:ext cx="1275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حدّد توقعاتك من المتدربين( هل من إضافة...حاضرين 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C36-D75F-442D-A9D4-C813EF10588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8" dur="indefinite" restart="never" nodeType="tmRoot">
          <p:childTnLst>
            <p:seq>
              <p:cTn id="2549" dur="indefinite" nodeType="mainSeq">
                <p:childTnLst>
                  <p:par>
                    <p:cTn id="2550" fill="hold">
                      <p:stCondLst>
                        <p:cond delay="0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2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5566320" y="125748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84680" y="1949400"/>
            <a:ext cx="933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ر مهارات لغة الجسد, النظر, الصوت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2590920"/>
            <a:ext cx="9091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خلق جوا من المرح في جلسة التدري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    ( استمتعوا, استمتعوا, استمتعوا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1100160" y="3581280"/>
            <a:ext cx="119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ر ان تجيب على جميع اسئلة الحضور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الاهتمام بهم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67320" y="4191120"/>
            <a:ext cx="957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عامل بكياسة مع الأشخاص المشاكسين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00240" y="4876920"/>
            <a:ext cx="93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وزع وقتك بطريقة سليمة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فن إدارة الوقت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-377280" y="5562720"/>
            <a:ext cx="112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جع المتدربين على التخيل واستعمال الحواس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FFA6-7432-483E-915A-922769E0D26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5" dur="indefinite" restart="never" nodeType="tmRoot">
          <p:childTnLst>
            <p:seq>
              <p:cTn id="2586" dur="indefinite" nodeType="mainSeq">
                <p:childTnLst>
                  <p:par>
                    <p:cTn id="2587" fill="hold">
                      <p:stCondLst>
                        <p:cond delay="0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9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0" fill="hold">
                      <p:stCondLst>
                        <p:cond delay="indefinite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304920"/>
            <a:ext cx="8153280" cy="68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>
                <a:solidFill>
                  <a:srgbClr val="990000"/>
                </a:solidFill>
                <a:latin typeface="Arial"/>
                <a:ea typeface="PT Bold Heading"/>
              </a:rPr>
              <a:t> استعدادي يعني أنني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فكر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تغير وأسعى للتغيير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نفسي أولا... (الروح ثم الجسد)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قدر ذاتي... أقتنص وقتي... وأحترم غيري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31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700" spc="-1" strike="noStrike">
                <a:solidFill>
                  <a:srgbClr val="000000"/>
                </a:solidFill>
                <a:latin typeface="Arial"/>
                <a:ea typeface="PT Bold Heading"/>
              </a:rPr>
              <a:t> أقرأ الآخرين وأتميز في التعامل معهم..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FD6-83D9-4B7C-B1EA-B3BD03B5EC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5566320" y="127332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1927080"/>
            <a:ext cx="90583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إذا سألك احد ولم تعرف الإجابة لا تكذب ولا تتهر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كن صادقا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622520" y="3048120"/>
            <a:ext cx="886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جنب استعمال المصطلحات المعقدة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028160" y="3778200"/>
            <a:ext cx="94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ستعمل الوسائل البصرية لجذب الانتباه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662360"/>
            <a:ext cx="9075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وقف من حين لآخر لتتعرف على رأي المشاركي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فن الوقف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0CFA-F4A1-42C6-A557-383D233C71A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7" dur="indefinite" restart="never" nodeType="tmRoot">
          <p:childTnLst>
            <p:seq>
              <p:cTn id="2638" dur="indefinite" nodeType="mainSeq">
                <p:childTnLst>
                  <p:par>
                    <p:cTn id="2639" fill="hold">
                      <p:stCondLst>
                        <p:cond delay="0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4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0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7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0" fill="hold">
                      <p:stCondLst>
                        <p:cond delay="indefinite"/>
                      </p:stCondLst>
                      <p:childTnLst>
                        <p:par>
                          <p:cTn id="2661" fill="hold">
                            <p:stCondLst>
                              <p:cond delay="0"/>
                            </p:stCondLst>
                            <p:childTnLst>
                              <p:par>
                                <p:cTn id="2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4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5566320" y="1273320"/>
            <a:ext cx="408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أثناء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-1900800" y="1981080"/>
            <a:ext cx="127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غير في ايقاع الدرس ونوع طرق العرض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واع الحضور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819520"/>
            <a:ext cx="90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جول بين المتدربين ولا تقف في نفس المكان طوال الوقت 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لغة الجسد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4191120"/>
            <a:ext cx="910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طلب متطوعين لشرح بعض الأفكار</a:t>
            </a: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شاركني وسوف اتذك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5029200"/>
            <a:ext cx="91011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كرّر الأسئلة أو أعد صياغتها في حال عدم فهم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نواع الحضو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5617-1A86-40FB-A9C5-2D4E45057F9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7" dur="indefinite" restart="never" nodeType="tmRoot">
          <p:childTnLst>
            <p:seq>
              <p:cTn id="2668" dur="indefinite" nodeType="mainSeq">
                <p:childTnLst>
                  <p:par>
                    <p:cTn id="2669" fill="hold">
                      <p:stCondLst>
                        <p:cond delay="0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6" fill="hold">
                      <p:stCondLst>
                        <p:cond delay="indefinite"/>
                      </p:stCondLst>
                      <p:childTnLst>
                        <p:par>
                          <p:cTn id="2677" fill="hold">
                            <p:stCondLst>
                              <p:cond delay="0"/>
                            </p:stCondLst>
                            <p:childTnLst>
                              <p:par>
                                <p:cTn id="26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0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5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389400" y="1273320"/>
            <a:ext cx="67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000" spc="-1" strike="noStrike" u="sng">
                <a:solidFill>
                  <a:srgbClr val="333399"/>
                </a:solidFill>
                <a:uFillTx/>
                <a:latin typeface="Arial"/>
                <a:ea typeface="Simplified Arabic"/>
              </a:rPr>
              <a:t>* في ختام جلسة التدريب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0920" y="380880"/>
            <a:ext cx="864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8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نصائح عامة للمحاضر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101680"/>
            <a:ext cx="905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سجيل الملاحظات وتصحيحها أولاً بأول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يعجبني / لا يعجبن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165760" y="2895480"/>
            <a:ext cx="81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ختام بقوة كما كانت البداية بقوة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625920"/>
            <a:ext cx="907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تذكير الحضور بواجبات ما بعد الدورة، التحدي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أعرج أخ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63880" y="4387680"/>
            <a:ext cx="1014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التعرف على رأي الحضور ... </a:t>
            </a: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التغذية الراجعة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5119560"/>
            <a:ext cx="9077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شكر من ينساهم الناس عادة .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a50021"/>
                </a:solidFill>
                <a:latin typeface="Arial"/>
                <a:ea typeface="Simplified Arabic"/>
              </a:rPr>
              <a:t>( أصحاب المراجع، العاملون، المنفذون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CFF-E233-4231-B0CA-B6D4929FB52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7" dur="indefinite" restart="never" nodeType="tmRoot">
          <p:childTnLst>
            <p:seq>
              <p:cTn id="2698" dur="indefinite" nodeType="mainSeq">
                <p:childTnLst>
                  <p:par>
                    <p:cTn id="2699" fill="hold">
                      <p:stCondLst>
                        <p:cond delay="0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fill="hold">
                      <p:stCondLst>
                        <p:cond delay="indefinite"/>
                      </p:stCondLst>
                      <p:childTnLst>
                        <p:par>
                          <p:cTn id="2715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8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0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5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0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1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-777960" y="304920"/>
            <a:ext cx="1080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990000"/>
                </a:solidFill>
                <a:latin typeface="Arial"/>
                <a:cs typeface="PT Bold Heading"/>
              </a:rPr>
              <a:t>سبع رسائل... إذا وصلت... فأنا متميز/ متميزة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990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1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ن أضيع وقتكم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2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عرف من أنتم ولماذا أتيتم إلى هنا (إشباع حاجات الجمهور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3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رسالتي واضحة ومادتي منظمة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4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سوف ألقي حديثي بصورة حوارية ممتعة (احتواء الحضور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5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أعرف موضوعي (الجمهور يريد أن يستمع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6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إليكم أهم نقاط الحديث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7</a:t>
            </a:r>
            <a:r>
              <a:rPr b="1" lang="ar-AE" sz="3200" spc="-1" strike="noStrike">
                <a:solidFill>
                  <a:srgbClr val="000000"/>
                </a:solidFill>
                <a:latin typeface="Arial"/>
                <a:ea typeface="PT Bold Heading"/>
              </a:rPr>
              <a:t>- لقد انتهيت (الانهاء بخاتمة قوية)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F0A5-CCEC-4FB3-8E2D-863D37EBC3C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2" dur="indefinite" restart="never" nodeType="tmRoot">
          <p:childTnLst>
            <p:seq>
              <p:cTn id="2743" dur="indefinite" nodeType="mainSeq">
                <p:childTnLst>
                  <p:par>
                    <p:cTn id="2744" fill="hold">
                      <p:stCondLst>
                        <p:cond delay="0"/>
                      </p:stCondLst>
                      <p:childTnLst>
                        <p:par>
                          <p:cTn id="2745" fill="hold">
                            <p:stCondLst>
                              <p:cond delay="0"/>
                            </p:stCondLst>
                            <p:childTnLst>
                              <p:par>
                                <p:cTn id="2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0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7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252360" y="609480"/>
            <a:ext cx="93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4400" spc="-1" strike="noStrike" u="sng">
                <a:solidFill>
                  <a:srgbClr val="800000"/>
                </a:solidFill>
                <a:uFillTx/>
                <a:latin typeface="Arial"/>
                <a:cs typeface="Simplified Arabic"/>
              </a:rPr>
              <a:t>ديل كار ينجي يقول هنالك ثلاثة أساسيات للمتحدث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03560"/>
            <a:ext cx="89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يكتسب حق التحدث في الموضو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8920" y="32288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لديه قناعات ومشاعر عميقة تجعل عيناه تلمعان وتجعل صوته يفيض بالمشاعر والعواط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5920" y="460044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3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- أن تكون لديه قصص وموضوعات وتشبيهات كثيرة توضح موضوعه ورسالته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CFBC-B913-43E8-AB7F-0E82AF1B5F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9720" y="2644920"/>
            <a:ext cx="357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ربما يعجبون بي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40600" y="278928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017680" y="32180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د لا يعجبون ب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040600" y="3365640"/>
            <a:ext cx="266760" cy="266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8040600" y="389088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0360" y="37227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ربما يكونون محايدين تجا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040600" y="4467240"/>
            <a:ext cx="266760" cy="266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72040" y="4267080"/>
            <a:ext cx="569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200" spc="-1" strike="noStrike">
                <a:solidFill>
                  <a:srgbClr val="000000"/>
                </a:solidFill>
                <a:latin typeface="Arial"/>
                <a:cs typeface="Simplified Arabic"/>
              </a:rPr>
              <a:t>قد يشعرون بالأسف تجاهي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8601120" y="1692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606600" y="1527120"/>
            <a:ext cx="1098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في نهاية العرض أو المحاضرة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3600" spc="-1" strike="noStrike">
                <a:solidFill>
                  <a:srgbClr val="333399"/>
                </a:solidFill>
                <a:latin typeface="Arial"/>
                <a:cs typeface="Simplified Arabic"/>
              </a:rPr>
              <a:t>فإن نظرة الجمهور تجاهي للمرة الأولى ستكون</a:t>
            </a:r>
            <a:r>
              <a:rPr b="1" lang="ar-AE" sz="3600" spc="-1" strike="noStrike">
                <a:solidFill>
                  <a:srgbClr val="000000"/>
                </a:solidFill>
                <a:latin typeface="Arial"/>
                <a:ea typeface="Simplified Arabic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38D3-18FA-454E-9CB9-C2A74F6E5C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63640" y="533520"/>
            <a:ext cx="5688000" cy="792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800000"/>
                </a:solidFill>
                <a:latin typeface="Arial"/>
              </a:rPr>
              <a:t>لهذه الاسباب ارفض الحديث امام الجمهور</a:t>
            </a:r>
            <a:r>
              <a:rPr b="1" lang="ar-AE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292720" y="153972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سوف أصبح أضحوك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539720"/>
            <a:ext cx="360036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أرتجف ولا أستطيع الكل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236232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لم أحضر لهذا الموضوع من ق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2332080"/>
            <a:ext cx="3600360" cy="718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سوف أنسى ما أريد ان أق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4120" y="3243240"/>
            <a:ext cx="358128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لدي لهجة غريبة ولا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يمكنني التحدث أمام النا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200400"/>
            <a:ext cx="365760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أخاف من تقييم الناس لي</a:t>
            </a: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خوف من الفش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4081320"/>
            <a:ext cx="3600720" cy="719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جمهور مثقف ولا يمكن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400" spc="-1" strike="noStrike">
                <a:solidFill>
                  <a:srgbClr val="000000"/>
                </a:solidFill>
                <a:latin typeface="Arial"/>
              </a:rPr>
              <a:t>الوقوف متحدثاً أمام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620-3D33-43B4-8BE6-AE1950E192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6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4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6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ulfi</cp:lastModifiedBy>
  <dcterms:modified xsi:type="dcterms:W3CDTF">2007-01-19T11:46:20Z</dcterms:modified>
  <cp:revision>2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